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B90D5-55CE-433A-BBF2-32CCC1F37F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AD4F8-7510-43B4-8ED6-E2914D331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EB13F-14DA-4814-9071-1D59D6C749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BA97D-3602-4866-A855-EAD8CD5731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E1455-5A0B-4117-89C1-7E7B97F547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2F17F-2733-41F0-956C-9E3440B3B1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6938-351A-45EE-88F4-58FEF4F4C05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66CD-613E-4DEA-B7C8-273D785FF79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A131-C8F4-402B-AE3E-BE921279AC7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5684-FB0E-4FD2-A23A-2A84B2CFD70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B078-DE1D-4E39-96D3-231070405B2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5458-F4E4-4AB8-8454-4335194B7B8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2924-AD4A-46D4-ADE8-5FAEBAE80E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B6A08-1D4C-4E41-A3D8-419CE9FB3B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FC13-C035-4A0A-9D30-DE97A2F2E68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4781-3644-4B0C-9DC2-995DE39358D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E301-57A4-4805-BD07-72B59801B24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C359-7B7E-45B2-8C0A-2696BBC626A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1957-B173-4619-9601-1FE88D2EF1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B8E66-B7CE-48AF-A638-31A6F32226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C9161-84C6-4F31-B032-0913E26171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1821C-8BC2-4250-A094-38623A1A92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EC641-C238-4FBD-BE00-FFC993A470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122F2-CEBE-4318-9E14-5A5DFF6E70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12346-AE9F-4339-A263-59D3A89694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FC074-B316-49E6-B4E7-C0EF50D173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Improvement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5399C-1A39-47C5-87CF-75E8B40B31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5" descr="paho_286_logo"/>
          <p:cNvPicPr/>
          <p:nvPr/>
        </p:nvPicPr>
        <p:blipFill>
          <a:blip r:embed="rId2"/>
          <a:stretch/>
        </p:blipFill>
        <p:spPr>
          <a:xfrm>
            <a:off x="7696080" y="6211800"/>
            <a:ext cx="1371600" cy="569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2BSLATH"/>
          <p:cNvPicPr/>
          <p:nvPr/>
        </p:nvPicPr>
        <p:blipFill>
          <a:blip r:embed="rId3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4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5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66809-D097-4540-AB8E-1D66031899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1"/>
          <p:cNvSpPr/>
          <p:nvPr/>
        </p:nvSpPr>
        <p:spPr>
          <a:xfrm>
            <a:off x="457200" y="6429240"/>
            <a:ext cx="281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4485B-16B7-4A10-9209-51678CF996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99600"/>
            <a:ext cx="3124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560" y="1062000"/>
            <a:ext cx="8458200" cy="52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«В вашей лаборатории были выявлены проблемы с пробами, поступающими в лабораторию из определенной поликлиники. Некоторые пробы транспортировались в лабораторию явно с задержкой, а ряд проб был собран в неподходящие контейнеры. Эти проблемы приводили к задержкам в выполнении анализов и к отказам в приеме проб. Для исправления ситуации был проведен ряд улучшений в ведении записей и на месте сбора проб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990720" y="487692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2-08-04T06:45:48Z</dcterms:modified>
  <cp:revision>66</cp:revision>
  <dc:subject/>
  <dc:title>Slide 1</dc:title>
</cp:coreProperties>
</file>